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4A1EF-156C-4F8C-AC92-543EDD85D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FAFB7-605F-43CB-9A6A-CBB0CCFE4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5A81B-AAD7-4F98-A8BF-57BD34C92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E6CF2-A067-4444-AD67-0F59CA842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6B770-5A9F-4A61-8BF4-8DFB38490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05F03-8F67-4D3A-AE50-2DD6B5298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5B345-C97A-410D-8047-59B214655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F862B-875F-46FE-BFCA-30685F42C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58D25-2B98-4A20-94D3-0BD6CD773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67F57-1488-4665-9A5A-6C9911E3B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D2187-07CF-4748-8371-DE7B914FF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4DCB0-0175-4C5E-A539-C729E29E0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CF50-B68F-4097-B51A-DCCE7E83A5B9}"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57360"/>
            <a:ext cx="7772400" cy="32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Shanty Towns In LEDC’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hanty Towns</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anty Towns</a:t>
            </a:r>
            <a:r>
              <a:rPr b="0" lang="en-US" sz="3200" spc="-1" strike="noStrike">
                <a:solidFill>
                  <a:srgbClr val="000000"/>
                </a:solidFill>
                <a:latin typeface="Calibri"/>
              </a:rPr>
              <a:t> are the illegal squatter settlements that characterise most of the large cities in the developing worl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occurred because of the huge numbers of people migrating from the rural areas to the cities, which just cannot cope with this massive influx of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Are They Like?</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ities most likely to have shanty towns are centres for commercial and industrial activity as well as being transport centre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are very attractive to in-migrant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 of the new in-migrants have very few skills, education or money, so they will often find whatever work they ca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Are They Like?</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nty towns develop on marginal land, often close to where the in-migrants hope to get 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high cost of land near the CBD means that shanty towns are either built on the periphery of the city or in hazardous areas closer to the city c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many world cities, plans are now in place to help formalise the slum housing, using schemes to improve amenities and living condition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of these self-help schemes can be seen in </a:t>
            </a:r>
            <a:r>
              <a:rPr b="1" lang="en-US" sz="2800" spc="-1" strike="noStrike">
                <a:solidFill>
                  <a:srgbClr val="000000"/>
                </a:solidFill>
                <a:latin typeface="Calibri"/>
              </a:rPr>
              <a:t>Sao Paulo (Brazil)</a:t>
            </a:r>
            <a:r>
              <a:rPr b="0" lang="en-US" sz="2800" spc="-1" strike="noStrike">
                <a:solidFill>
                  <a:srgbClr val="000000"/>
                </a:solidFill>
                <a:latin typeface="Calibri"/>
              </a:rPr>
              <a:t> and </a:t>
            </a:r>
            <a:r>
              <a:rPr b="1" lang="en-US" sz="2800" spc="-1" strike="noStrike">
                <a:solidFill>
                  <a:srgbClr val="000000"/>
                </a:solidFill>
                <a:latin typeface="Calibri"/>
              </a:rPr>
              <a:t>New Delhi (Indi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are politically embarrassing to the Government, which is why many of them are now trying to help the people improve the shanty area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Governments feel that they may well discourage tourists from coming to the cit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houses are built of whatever the people can find, and are often major fire hazard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ir existence will reduce the prices of property in adjacent area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are home to many diseases and can easily be affected by environmental disasters such as landslides and flood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Other Names</a:t>
            </a:r>
            <a:endParaRPr b="0" lang="en-US" sz="4400" spc="-1" strike="noStrike">
              <a:solidFill>
                <a:srgbClr val="000000"/>
              </a:solidFill>
              <a:latin typeface="Calibri"/>
            </a:endParaRPr>
          </a:p>
        </p:txBody>
      </p:sp>
      <p:sp>
        <p:nvSpPr>
          <p:cNvPr id="51" name=""/>
          <p:cNvSpPr txBox="1"/>
          <p:nvPr/>
        </p:nvSpPr>
        <p:spPr>
          <a:xfrm>
            <a:off x="456840" y="1599840"/>
            <a:ext cx="84358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Rio de Janeiro and Sao Paulo (Brazil) they are called </a:t>
            </a:r>
            <a:r>
              <a:rPr b="1" lang="en-US" sz="3200" spc="-1" strike="noStrike">
                <a:solidFill>
                  <a:srgbClr val="000000"/>
                </a:solidFill>
                <a:latin typeface="Calibri"/>
              </a:rPr>
              <a:t>Favel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New Delhi (India) they are called </a:t>
            </a:r>
            <a:r>
              <a:rPr b="1" lang="en-US" sz="3200" spc="-1" strike="noStrike">
                <a:solidFill>
                  <a:srgbClr val="000000"/>
                </a:solidFill>
                <a:latin typeface="Calibri"/>
              </a:rPr>
              <a:t>Jhugg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Calcutta (India) they are called </a:t>
            </a:r>
            <a:r>
              <a:rPr b="1" lang="en-US" sz="3200" spc="-1" strike="noStrike">
                <a:solidFill>
                  <a:srgbClr val="000000"/>
                </a:solidFill>
                <a:latin typeface="Calibri"/>
              </a:rPr>
              <a:t>Buste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Lima (Peru) they are called </a:t>
            </a:r>
            <a:r>
              <a:rPr b="1" lang="en-US" sz="3200" spc="-1" strike="noStrike">
                <a:solidFill>
                  <a:srgbClr val="000000"/>
                </a:solidFill>
                <a:latin typeface="Calibri"/>
              </a:rPr>
              <a:t>Pueblos Joven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se Study: New Delhi, India</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Jhuggies of New Delhi occupy marginal land, usually beside transport routes or in hazardous area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are built from recycled materials and the 400,000 shanty homes house over 2.4 million peopl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have a very </a:t>
            </a:r>
            <a:r>
              <a:rPr b="1" lang="en-US" sz="2600" spc="-1" strike="noStrike">
                <a:solidFill>
                  <a:srgbClr val="000000"/>
                </a:solidFill>
                <a:latin typeface="Calibri"/>
              </a:rPr>
              <a:t>high population density</a:t>
            </a:r>
            <a:r>
              <a:rPr b="0" lang="en-US" sz="2600" spc="-1" strike="noStrike">
                <a:solidFill>
                  <a:srgbClr val="000000"/>
                </a:solidFill>
                <a:latin typeface="Calibri"/>
              </a:rPr>
              <a:t> and very poor facilities, such as toilets, which leads to increased occurrences of </a:t>
            </a:r>
            <a:r>
              <a:rPr b="1" lang="en-US" sz="2600" spc="-1" strike="noStrike">
                <a:solidFill>
                  <a:srgbClr val="000000"/>
                </a:solidFill>
                <a:latin typeface="Calibri"/>
              </a:rPr>
              <a:t>diseases</a:t>
            </a:r>
            <a:r>
              <a:rPr b="0" lang="en-US" sz="2600" spc="-1" strike="noStrike">
                <a:solidFill>
                  <a:srgbClr val="000000"/>
                </a:solidFill>
                <a:latin typeface="Calibri"/>
              </a:rPr>
              <a:t> such as cholera and dysentr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y all building together (illegally) the residents hope that the area will become officially recognised and therefore will qualify for government funded public services, such as sewerage and electricit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se Study: New Delhi, India</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governments have bulldozed shanty towns to try to relocate the people, but this tactic hardly ever work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Delhi they realised that the shanty towns should become the starting point for urban redevelopment and plann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 introduced schemes where the local community was closely involved in the planning and building of new hous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ten the government provided the materials, whilst the local people built the buildin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 would then provide an improved infrastructur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has occurred in many cities throughout the developing worl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se Study: New Delhi, India</a:t>
            </a:r>
            <a:endParaRPr b="0" lang="en-US" sz="4400" spc="-1" strike="noStrike">
              <a:solidFill>
                <a:srgbClr val="000000"/>
              </a:solidFill>
              <a:latin typeface="Calibri"/>
            </a:endParaRPr>
          </a:p>
        </p:txBody>
      </p:sp>
      <p:sp>
        <p:nvSpPr>
          <p:cNvPr id="57" name=""/>
          <p:cNvSpPr txBox="1"/>
          <p:nvPr/>
        </p:nvSpPr>
        <p:spPr>
          <a:xfrm>
            <a:off x="457200" y="1599840"/>
            <a:ext cx="82296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elhi Authorities have also built completely new communities away from the old shanty towns, complete with good transport links to the CBD, where many people work, and the prospects of many jobs in the new area.</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such area is called </a:t>
            </a:r>
            <a:r>
              <a:rPr b="1" lang="en-US" sz="3000" spc="-1" strike="noStrike">
                <a:solidFill>
                  <a:srgbClr val="000000"/>
                </a:solidFill>
                <a:latin typeface="Calibri"/>
              </a:rPr>
              <a:t>Rohini.</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was built in the 1980’s to house 850,000 people and provide 300,000 job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ilar schemes are planned for elsewhere in the cit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02:53:25Z</dcterms:created>
  <dc:creator>Dell_02</dc:creator>
  <dc:description/>
  <dc:language>en-US</dc:language>
  <cp:lastModifiedBy>Dell_02</cp:lastModifiedBy>
  <dcterms:modified xsi:type="dcterms:W3CDTF">2011-01-26T03:05:33Z</dcterms:modified>
  <cp:revision>2</cp:revision>
  <dc:subject/>
  <dc:title>Shanty Towns In LEDC’s</dc:title>
</cp:coreProperties>
</file>